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775-EB1F-4193-8118-2D4E5A45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469-0923-4723-B2C2-FAB3D05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71B-3B69-4CE5-A10A-9CD059F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811-76CF-449D-8167-59C9CCC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00CE-A0C4-444A-80F5-CC9E11AA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DE05-5E00-4872-BB7A-F4585F6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7D4F-5F8D-457A-887B-C9F9918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E58-7F6B-4042-9321-40060C87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5D5B-1D60-4730-B796-89A31A18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15B-F3F3-4578-AA54-920B4503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3C10-BD1F-4B7E-A3AE-830AC43F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2C5-A9DE-471F-B47D-2EC6F377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0483-60A1-400B-B48F-A4ADA1A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852-313A-4463-BB0B-3A2A46F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483-C3C6-48DF-8180-D701B6C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BD96-6134-44D0-ACF8-612E930F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991-C32C-4514-A3F5-158A1576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052-5AC1-476D-8276-7B0028B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1E4-51B1-4AA4-B52E-F07A07C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C1B-03B8-4797-880D-900BE219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CC1-755B-4E8E-A9F8-F9E855B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3C0-7554-4E31-B5B8-A4CFD98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615-7ACB-4EC6-A926-27C7CCA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D71-540E-4FA1-8991-CDB86AB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2440-7208-42AB-91E4-F98B7E4AF0BA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92808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C695-B8AA-47BA-8B80-1DDF3D3DE53E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066680" y="380880"/>
            <a:ext cx="7924680" cy="6324840"/>
            <a:chOff x="1066680" y="380880"/>
            <a:chExt cx="7924680" cy="6324840"/>
          </a:xfrm>
        </p:grpSpPr>
        <p:sp>
          <p:nvSpPr>
            <p:cNvPr id="128" name=""/>
            <p:cNvSpPr/>
            <p:nvPr/>
          </p:nvSpPr>
          <p:spPr>
            <a:xfrm>
              <a:off x="1066680" y="1646280"/>
              <a:ext cx="7773840" cy="321948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7360" y="957240"/>
              <a:ext cx="6264000" cy="413712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8360" y="2565360"/>
              <a:ext cx="5132520" cy="414036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18200" y="380880"/>
              <a:ext cx="3094200" cy="252900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23880" y="2057400"/>
            <a:ext cx="63072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Gulim"/>
              </a:rPr>
              <a:t>Quality Contro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Gulim"/>
              </a:rPr>
              <a:t>Mechanis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Gulim"/>
              </a:rPr>
              <a:t>Quality control for individual CP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embers in public practice must practice with a firm enrolled in an approved peer review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s of 2000, a new member must have 150 semester hours of colleg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embers must obtain 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Public practice: ? hours of CPE for thre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Other members: ? hours of CPE for thre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76560"/>
            <a:ext cx="84582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66"/>
                </a:solidFill>
                <a:latin typeface="Times New Roman"/>
                <a:ea typeface="Gulim"/>
              </a:rPr>
              <a:t>Quality control for accounting fir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067760" y="1452600"/>
            <a:ext cx="236052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066680" y="2133720"/>
            <a:ext cx="2363760" cy="969840"/>
          </a:xfrm>
          <a:prstGeom prst="rect">
            <a:avLst/>
          </a:prstGeom>
          <a:solidFill>
            <a:srgbClr val="0099cc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 applicable to a C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firm to aid in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generally accepted au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6680" y="4267080"/>
            <a:ext cx="2438640" cy="2212560"/>
            <a:chOff x="1066680" y="4267080"/>
            <a:chExt cx="2438640" cy="2212560"/>
          </a:xfrm>
        </p:grpSpPr>
        <p:sp>
          <p:nvSpPr>
            <p:cNvPr id="139" name=""/>
            <p:cNvSpPr/>
            <p:nvPr/>
          </p:nvSpPr>
          <p:spPr>
            <a:xfrm flipH="1">
              <a:off x="1066680" y="4267080"/>
              <a:ext cx="243864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Division of CPA Fi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066680" y="4916880"/>
              <a:ext cx="1249920" cy="9129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21640" y="4916880"/>
              <a:ext cx="1183680" cy="9129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iv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066680" y="5834880"/>
              <a:ext cx="2438640" cy="6447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Organizations intended to hel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irms meet quality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tandards and GA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3731400" y="2666880"/>
            <a:ext cx="2210040" cy="90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Generally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uditing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29960" y="3600360"/>
            <a:ext cx="2212920" cy="1200240"/>
          </a:xfrm>
          <a:prstGeom prst="rect">
            <a:avLst/>
          </a:prstGeom>
          <a:solidFill>
            <a:srgbClr val="0099cc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 applicabl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Each au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24480" y="4267080"/>
            <a:ext cx="2286000" cy="2288880"/>
            <a:chOff x="6324480" y="4267080"/>
            <a:chExt cx="2286000" cy="2288880"/>
          </a:xfrm>
        </p:grpSpPr>
        <p:sp>
          <p:nvSpPr>
            <p:cNvPr id="146" name=""/>
            <p:cNvSpPr/>
            <p:nvPr/>
          </p:nvSpPr>
          <p:spPr>
            <a:xfrm flipH="1">
              <a:off x="6324480" y="4267080"/>
              <a:ext cx="2286000" cy="66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eer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324480" y="4939560"/>
              <a:ext cx="2286000" cy="16164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Method to determine whe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a CPA firm meets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ontrol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00800" y="1295280"/>
            <a:ext cx="2286000" cy="1828440"/>
            <a:chOff x="6400800" y="1295280"/>
            <a:chExt cx="2286000" cy="1828440"/>
          </a:xfrm>
        </p:grpSpPr>
        <p:sp>
          <p:nvSpPr>
            <p:cNvPr id="149" name=""/>
            <p:cNvSpPr/>
            <p:nvPr/>
          </p:nvSpPr>
          <p:spPr>
            <a:xfrm flipH="1">
              <a:off x="6400800" y="1295280"/>
              <a:ext cx="2286000" cy="53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CA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400800" y="1832400"/>
              <a:ext cx="2286000" cy="12913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Governs accounting fi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Who audit public compan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tatement of Quality Control Standard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066680"/>
            <a:ext cx="8001000" cy="50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PA firms are required to esta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quality contr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olicies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at addre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five elements of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ontr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independence, integrity, and obj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erso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cceptance/continuation of clients and enga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ngagemen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38560" y="4572000"/>
            <a:ext cx="4914720" cy="2247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49680" y="4730760"/>
            <a:ext cx="40258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35160"/>
            <a:ext cx="762012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EC Practice Se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- for firms with audit clients whose stock is publicly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ivate Companies Practice Se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for firms with audit clients whose 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o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publicly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Membership in either section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optional excep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firms with SEC client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mu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join the SEC Practice S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 AICPA Division for CPA Firm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: two sec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05480" y="4724280"/>
            <a:ext cx="401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Arial"/>
                <a:ea typeface="Gulim"/>
              </a:rPr>
              <a:t>Joe’s Gas S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1406520"/>
            <a:ext cx="88441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Gulim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mbers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actice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st undergo peer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members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actic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als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must undergo peer reviews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less extens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han those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f practice section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The AICPA Divi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and Peer Re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47293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02200" y="1143000"/>
            <a:ext cx="7678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Gulim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 review of a CPA firm’s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 i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quality contro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required e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firms choose the firm to review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request a review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the firm being review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upon review completion, the re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epar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re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tat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Peer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Gulim"/>
              </a:rPr>
              <a:t>PCAOB 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Gulim"/>
              </a:rPr>
              <a:t>(Public Company Accounting Oversight Boar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Not a government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A private, non-profit corporation under the oversight of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elf-funded from accounting firms and public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5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Appointed by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Only 2 C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hairman: a CPA but not practice fo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ly, William McDonough (appointed in Apri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Major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Registration of public accounting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ccounting firms that audit SEC firms must register with PCA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spection and enforcem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that audits more than 100 public companies: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firms that audits no more than 100: every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firms that does not audit public compan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an impose monetary damages, suspend accountings firms or C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etting accounting and auditing 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uditing standards of non-public compan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23:47:08Z</dcterms:created>
  <dc:creator>jongsoo Han, Ph.D</dc:creator>
  <dc:description/>
  <dc:language>en-US</dc:language>
  <cp:lastModifiedBy>jinhua</cp:lastModifiedBy>
  <dcterms:modified xsi:type="dcterms:W3CDTF">2008-10-08T01:35:10Z</dcterms:modified>
  <cp:revision>76</cp:revision>
  <dc:subject/>
  <dc:title>Chapter 2 course outline</dc:title>
</cp:coreProperties>
</file>